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40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B35-5AAF-47D9-9590-493BAE3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7F5-CC4D-4F7E-9DDA-A3863C4D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B70-E8A8-4DA8-9899-7787B23F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BC0-5C25-4151-9F1A-28030560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A63-8F69-4CC9-B975-60C3CA3B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99DD-FD14-4C52-9AE9-0F90C1D6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56D5-DA60-41D7-9110-4D976DB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200-11C1-4F3D-8E90-C9CE961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19E-70D1-45B3-86C2-BB04DF8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3BC7-243B-4B87-85D4-E54087C8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174-ECD1-4A1D-8304-E11D19A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8C2-E627-4572-AB84-2324E06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D80-9474-4977-B950-40277C9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F84-04C7-4DED-9D59-7626BA2F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4CD5-2DB5-433D-B035-8C1E652E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5DC-6A11-4C98-BADD-7A285C9A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DD81-7100-4451-A62D-DD01DFFA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44E-4B26-45EB-8E27-DE17643F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B19-74E1-45D8-A315-F7A2EBD0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825-FCAE-40F2-A7B4-DCF88BE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EBB-1732-4BBB-A653-9BD3E32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D91-5C56-49DE-8F16-222FD88C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68F-25E3-41CC-9A72-3C7EFE6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2C4-228E-4C0E-8196-99BC9F7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1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B4C5-B5C3-4444-B4F8-9D2AC67B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45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46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242-3FD4-4FAB-B8D6-C7296AA5A6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irthday%20Basket%20for%20Tia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irthday%20Basket%20for%20Tia/matchword2.html" TargetMode="External"/><Relationship Id="rId4" Type="http://schemas.openxmlformats.org/officeDocument/2006/relationships/hyperlink" Target="http://www.scottsboro.org/~flewis/SF%20Reading%20Street/spellmaster/Birthday%20Basket%20for%20Tia/speedword2.html" TargetMode="External"/><Relationship Id="rId5" Type="http://schemas.openxmlformats.org/officeDocument/2006/relationships/hyperlink" Target="http://www.scottsboro.org/~flewis/SF%20Reading%20Street/spellmaster/Birthday%20Basket%20for%20Tia/wordsearch2.html" TargetMode="External"/><Relationship Id="rId6" Type="http://schemas.openxmlformats.org/officeDocument/2006/relationships/hyperlink" Target="http://www.scottsboro.org/~flewis/SF%20Reading%20Street/spellmaster/Birthday%20Basket%20for%20Tia/wordweb.html" TargetMode="External"/><Relationship Id="rId7" Type="http://schemas.openxmlformats.org/officeDocument/2006/relationships/hyperlink" Target="http://www.spellingcity.com/index.php?option=com_spellcity&amp;task=viewList&amp;listId=825749" TargetMode="External"/><Relationship Id="rId8" Type="http://schemas.openxmlformats.org/officeDocument/2006/relationships/hyperlink" Target="http://www.spellingcity.com/index.php?option=com_spellcity&amp;task=viewList&amp;listId=825743" TargetMode="External"/><Relationship Id="rId9" Type="http://schemas.openxmlformats.org/officeDocument/2006/relationships/hyperlink" Target="http://www.scottsboro.org/~flewis/SF%20Reading%20Street/spellmaster/Birthday%20Basket%20for%20Tia%20Spelling%20Words/speedword2.html" TargetMode="External"/><Relationship Id="rId10" Type="http://schemas.openxmlformats.org/officeDocument/2006/relationships/hyperlink" Target="http://www.scottsboro.org/~flewis/SF%20Reading%20Street/spellmaster/Birthday%20Basket%20for%20Tia%20Spelling%20Words/wordweb.html" TargetMode="External"/><Relationship Id="rId11" Type="http://schemas.openxmlformats.org/officeDocument/2006/relationships/hyperlink" Target="http://www.quia.com/jw/211300.html" TargetMode="External"/><Relationship Id="rId12" Type="http://schemas.openxmlformats.org/officeDocument/2006/relationships/hyperlink" Target="http://www.spellingcity.com/index.php?option=com_spellcity&amp;Itemid=122&amp;task=viewList&amp;listId=354285" TargetMode="External"/><Relationship Id="rId13" Type="http://schemas.openxmlformats.org/officeDocument/2006/relationships/hyperlink" Target="http://www.spellingcity.com/index.php?option=com_spellcity&amp;task=viewList&amp;listId=825760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5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image" Target="../media/image6.png"/><Relationship Id="rId3" Type="http://schemas.openxmlformats.org/officeDocument/2006/relationships/hyperlink" Target="http://images.google.com/imgres?imgurl=http://www.robertopiecollection.com/Application/images/wicker-baskets/garden-vegetable-basket-lg.jpg&amp;imgrefurl=http://www.robertopiecollection.com/Application/Products/Hampers/Hamper-baskets-GB.asp&amp;usg=__GSsybQ9-BD3Qxu0ZY6eayNorsHA=&amp;h=800&amp;w=903&amp;sz=154&amp;hl=EN&amp;start=1&amp;tbnid=yJwZ3BluHanUhM:&amp;tbnh=130&amp;tbnw=147&amp;prev=/images?q=basket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germes-online.com/direct/dbimage/50317117/Brown_Willow_Laundry_Basket__S_2_.jpg&amp;imgrefurl=http://www.germes-online.com/catalog/26/34/852/70489/sell_brown_willow_laundry_basket_s_2_.html&amp;usg=__7ooWJVnxUByxM3vTRAA9DZQ5jVo=&amp;h=360&amp;w=360&amp;sz=30&amp;hl=EN&amp;start=2&amp;tbnid=Gj_9IBjJrL5SaM:&amp;tbnh=121&amp;tbnw=121&amp;prev=/images?q=basket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images.oneofakindantiques.com/2469_hand_woven_native_american_basket_1.jpg&amp;imgrefurl=http://www.oneofakindantiques.com/catalog/2469_early_19th_century_hand_woven_native_american_indian_basket_1.htm&amp;usg=__lsvMciFRHeWSBODmFlYOyvuG1fY=&amp;h=341&amp;w=640&amp;sz=67&amp;hl=EN&amp;start=13&amp;tbnid=lF1jCvwUgFSKFM:&amp;tbnh=73&amp;tbnw=137&amp;prev=/images?q=basket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parks.ca.gov/pages/486/images/bird_design_woven_basket.jpg&amp;imgrefurl=http://www.parks.ca.gov/default.asp?page_id=21310&amp;usg=__GoQzBKTLOHULZsA8cTdq9MGSz4E=&amp;h=336&amp;w=417&amp;sz=81&amp;hl=EN&amp;start=14&amp;tbnid=V4NGVi5DOR0HiM:&amp;tbnh=101&amp;tbnw=125&amp;prev=/images?q=basket&amp;gbv=2&amp;hl=E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www.ares-online.com/catalog/pics/Wire_Shopping_Basket.jpg&amp;imgrefurl=http://www.ares-online.com/catalog/advertising/1/&amp;usg=__AGi2Cws8N1BHkjcsuHBAMM7_NoA=&amp;h=359&amp;w=359&amp;sz=33&amp;hl=EN&amp;start=20&amp;tbnid=8htHZeOjp83wEM:&amp;tbnh=121&amp;tbnw=121&amp;prev=/images?q=basket&amp;gbv=2&amp;hl=EN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com/imgres?imgurl=http://www.germes-online.com/direct/dbimage/50353472/Plastic_Shopping_Basket.jpg&amp;imgrefurl=http://www.germes-online.com/catalog/63/67/1175/287476/sell_shopping_carts_with_2_baskets.html&amp;usg=__006y4TuH3JhdUzRpgCjzz4gdAmA=&amp;h=360&amp;w=360&amp;sz=31&amp;hl=EN&amp;start=35&amp;tbnid=DybtEcRohR2iQM:&amp;tbnh=121&amp;tbnw=121&amp;prev=/images?q=basket&amp;gbv=2&amp;ndsp=20&amp;hl=EN&amp;sa=N&amp;start=20" TargetMode="External"/><Relationship Id="rId14" Type="http://schemas.openxmlformats.org/officeDocument/2006/relationships/image" Target="../media/image12.jpeg"/><Relationship Id="rId15" Type="http://schemas.openxmlformats.org/officeDocument/2006/relationships/hyperlink" Target="http://images.google.com/imgres?imgurl=http://www.unipeckusa.com/images/suet-to-go-suet-basket-with-bird.jpg&amp;imgrefurl=http://www.unipeckusa.com/unipeck-suet-to-go-suet-basket.php&amp;usg=__m-qe4GjPbTYg-90EzrZphitYAmo=&amp;h=1193&amp;w=1200&amp;sz=130&amp;hl=EN&amp;start=36&amp;tbnid=bstlUJD7gEAaIM:&amp;tbnh=149&amp;tbnw=150&amp;prev=/images?q=basket&amp;gbv=2&amp;ndsp=20&amp;hl=EN&amp;sa=N&amp;start=20" TargetMode="External"/><Relationship Id="rId16" Type="http://schemas.openxmlformats.org/officeDocument/2006/relationships/image" Target="../media/image13.jpeg"/><Relationship Id="rId17" Type="http://schemas.openxmlformats.org/officeDocument/2006/relationships/hyperlink" Target="http://images.google.com/imgres?imgurl=http://www.flowers2perfection.com/yahoo_site_admin/assets/images/Cocktail-Party-Gift-Basket-Premium.3143007.jpg&amp;imgrefurl=http://www.flowers2perfection.com/products&amp;usg=__YCmUDmGcxuBcj7ZYCzF8uD2vp48=&amp;h=300&amp;w=300&amp;sz=43&amp;hl=EN&amp;start=38&amp;tbnid=qvLVa9LMklE-BM:&amp;tbnh=116&amp;tbnw=116&amp;prev=/images?q=basket&amp;gbv=2&amp;ndsp=20&amp;hl=EN&amp;sa=N&amp;start=20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images.google.com/imgres?imgurl=http://www.bowwowgiftbasket.com/files/1484562/uploaded/Bite%2520Meez%2520Dog%2520Gift%2520Basket.jpg&amp;imgrefurl=http://www.bowwowgiftbasket.com/&amp;usg=__YKl1kkXg7T0m_dlo2qqclSpUvX4=&amp;h=396&amp;w=396&amp;sz=28&amp;hl=EN&amp;start=32&amp;tbnid=ghN-yc0mlUaluM:&amp;tbnh=124&amp;tbnw=124&amp;prev=/images?q=basket&amp;gbv=2&amp;ndsp=20&amp;hl=EN&amp;sa=N&amp;start=20" TargetMode="External"/><Relationship Id="rId20" Type="http://schemas.openxmlformats.org/officeDocument/2006/relationships/image" Target="../media/image15.jpeg"/><Relationship Id="rId21" Type="http://schemas.openxmlformats.org/officeDocument/2006/relationships/hyperlink" Target="http://images.google.com/imgres?imgurl=http://www.primitiveways.com/Images2/basket1.jpg&amp;imgrefurl=http://www.primitiveways.com/bare-handed_basket.html&amp;usg=__5l2HM_WN4-XgULLEyCjNVE8KExg=&amp;h=324&amp;w=432&amp;sz=40&amp;hl=EN&amp;start=31&amp;tbnid=ELUmwFl9aX0HdM:&amp;tbnh=95&amp;tbnw=126&amp;prev=/images?q=basket&amp;gbv=2&amp;ndsp=20&amp;hl=EN&amp;sa=N&amp;start=20" TargetMode="External"/><Relationship Id="rId22" Type="http://schemas.openxmlformats.org/officeDocument/2006/relationships/image" Target="../media/image16.jpeg"/><Relationship Id="rId23" Type="http://schemas.openxmlformats.org/officeDocument/2006/relationships/hyperlink" Target="http://images.google.com/imgres?imgurl=http://www.germes-online.com/direct/dbimage/50198720/Maize_Laundry_Basket.jpg&amp;imgrefurl=http://www.germes-online.com/catalog/26/34/852/laundry_bags_and_baskets.html&amp;usg=__QdmTm_tyshUgPoS6RWyX_JX_Zzo=&amp;h=360&amp;w=360&amp;sz=28&amp;hl=EN&amp;start=25&amp;tbnid=klnHZLoetQlbKM:&amp;tbnh=121&amp;tbnw=121&amp;prev=/images?q=basket&amp;gbv=2&amp;ndsp=20&amp;hl=EN&amp;sa=N&amp;start=20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images.google.com/imgres?imgurl=http://akwesasneculturalcenter.org/wp-content/uploads/2008/01/denise-jocks-thistle-basket.jpg&amp;imgrefurl=http://akwesasneculturalcenter.org/page/3/&amp;usg=__qILr-uIQBdw_yILK4AhhOmzLDqE=&amp;h=538&amp;w=482&amp;sz=52&amp;hl=EN&amp;start=23&amp;tbnid=PFYXuH-jn6zK4M:&amp;tbnh=132&amp;tbnw=118&amp;prev=/images?q=basket&amp;gbv=2&amp;ndsp=20&amp;hl=EN&amp;sa=N&amp;start=20" TargetMode="External"/><Relationship Id="rId26" Type="http://schemas.openxmlformats.org/officeDocument/2006/relationships/image" Target="../media/image18.jpeg"/><Relationship Id="rId2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6.png"/><Relationship Id="rId3" Type="http://schemas.openxmlformats.org/officeDocument/2006/relationships/hyperlink" Target="http://images.google.com/imgres?imgurl=http://brandlicanblog.files.wordpress.com/2009/01/pt-piggy-bank-pink-2.jpg&amp;imgrefurl=http://ndnblog.org/node?page=3&amp;usg=__YEFqNbClbBoajnqNOaKxhgyonhA=&amp;h=400&amp;w=400&amp;sz=67&amp;hl=EN&amp;start=27&amp;tbnid=QvPHcnBBpohSSM:&amp;tbnh=124&amp;tbnw=124&amp;prev=/images?q=bank&amp;gbv=2&amp;ndsp=20&amp;hl=EN&amp;sa=N&amp;start=20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http://www.nyc-architecture.com/MID/Bank_of_america_tower_sept_2007.jpg&amp;imgrefurl=http://www.nyc-architecture.com/MID/MID157.htm&amp;usg=__lz2OyMLeJ-J3qYE1VXYY2DK556s=&amp;h=500&amp;w=333&amp;sz=56&amp;hl=EN&amp;start=47&amp;tbnid=gnrBBmc9zUvoCM:&amp;tbnh=130&amp;tbnw=87&amp;prev=/images?q=bank&amp;gbv=2&amp;ndsp=20&amp;hl=EN&amp;sa=N&amp;start=40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http://hbmortgageoracle.files.wordpress.com/2009/02/bank.jpg&amp;imgrefurl=http://hbmortgageoracle.wordpress.com/2009/02/11/bank-ceo%25E2%2580%2599s-called-to-capital-hill/&amp;usg=__mvEMJYyGtWSNx2NmNUQGyc1O9uw=&amp;h=352&amp;w=500&amp;sz=47&amp;hl=EN&amp;start=56&amp;tbnid=W8TRZmlksxtR3M:&amp;tbnh=92&amp;tbnw=130&amp;prev=/images?q=bank&amp;gbv=2&amp;ndsp=20&amp;hl=EN&amp;sa=N&amp;start=40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images.encarta.msn.com/xrefmedia/sharemed/targets/images/pho/000a5/000a5038.jpg&amp;imgrefurl=http://encarta.msn.com/media_701508985/bank_vault.html&amp;usg=__xBGIzTtHeUfNOCAZoW36NO5xtPQ=&amp;h=347&amp;w=520&amp;sz=34&amp;hl=EN&amp;start=7&amp;tbnid=RJ1oHR0GwCnwrM:&amp;tbnh=87&amp;tbnw=131&amp;prev=/images?q=bank+vault&amp;gbv=2&amp;hl=E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com/imgres?imgurl=http://www.swiss-banking-antiques.com/images/swiss-federal-bank-zurich-600.jpg&amp;imgrefurl=http://www.swiss-banking-antiques.com/e/shadow-boxes/information.html&amp;usg=__SqGILyE_c6TYz4SXSuoGdOW-m9Q=&amp;h=401&amp;w=600&amp;sz=129&amp;hl=EN&amp;start=20&amp;tbnid=OgBndUCUxc3ZLM:&amp;tbnh=90&amp;tbnw=135&amp;prev=/images?q=bank+vault&amp;gbv=2&amp;hl=E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images.google.com/imgres?imgurl=http://www.safeandvaultstore.com/blog/wp-content/uploads/2008/07/bridgeman-safe-deposit-boxes-cutout.jpg&amp;imgrefurl=http://www.safeandvaultstore.com/blog/safe-deposit-box/deposit-storage/&amp;usg=__5Mzq13eJnEq1b8QErbKKmXg9UDA=&amp;h=728&amp;w=834&amp;sz=324&amp;hl=EN&amp;start=4&amp;tbnid=UCMbYOZmJ-qLzM:&amp;tbnh=126&amp;tbnw=144&amp;prev=/images?q=safety+deposit+boxes&amp;gbv=2&amp;hl=EN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images.google.com/imgres?imgurl=http://www.geograph.org.uk/photos/02/56/025624_e89c5be2.jpg&amp;imgrefurl=http://www.geograph.org.uk/photo/25624&amp;usg=__GuWdCLWZxzz8nUdrNi6_JTYhWf4=&amp;h=480&amp;w=640&amp;sz=90&amp;hl=EN&amp;start=3&amp;tbnid=DZ6vlseYAApkmM:&amp;tbnh=103&amp;tbnw=137&amp;prev=/images?q=river+banks&amp;gbv=2&amp;hl=EN" TargetMode="External"/><Relationship Id="rId16" Type="http://schemas.openxmlformats.org/officeDocument/2006/relationships/image" Target="../media/image25.jpeg"/><Relationship Id="rId17" Type="http://schemas.openxmlformats.org/officeDocument/2006/relationships/hyperlink" Target="http://images.google.com/imgres?imgurl=http://cache.virtualtourist.com/1700261-The_River_Banks_of_Lake_St_Lucia-Lake_Saint_Lucia.jpg&amp;imgrefurl=http://members.virtualtourist.com/m/66766/21d384/&amp;usg=__Ub5FDA9TkKHrxx6pkroi8SxCyhk=&amp;h=420&amp;w=560&amp;sz=52&amp;hl=EN&amp;start=6&amp;tbnid=tvAwEc3VHoBUtM:&amp;tbnh=100&amp;tbnw=133&amp;prev=/images?q=river+banks&amp;gbv=2&amp;hl=EN" TargetMode="External"/><Relationship Id="rId18" Type="http://schemas.openxmlformats.org/officeDocument/2006/relationships/image" Target="../media/image26.jpeg"/><Relationship Id="rId19" Type="http://schemas.openxmlformats.org/officeDocument/2006/relationships/hyperlink" Target="http://images.google.com/imgres?imgurl=http://www.expedition360.com/australia_lessons_environmental/mitchell_river_banks.jpg&amp;imgrefurl=http://www.expedition360.com/australia_lessons_environmental/2001/08/&amp;usg=__UlPp_kTYa_z1aNbVaEqt9Q9zvhU=&amp;h=356&amp;w=475&amp;sz=48&amp;hl=EN&amp;start=11&amp;tbnid=2UvIOQfUuWKuxM:&amp;tbnh=97&amp;tbnw=129&amp;prev=/images?q=river+banks&amp;gbv=2&amp;hl=EN" TargetMode="External"/><Relationship Id="rId20" Type="http://schemas.openxmlformats.org/officeDocument/2006/relationships/image" Target="../media/image27.jpeg"/><Relationship Id="rId2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ics.uci.edu/~eppstein/pix/t7bd/WizardHatPinata1-m.jpg&amp;imgrefurl=http://www.ics.uci.edu/~eppstein/pix/t7bd/WizardHatPinata1.html&amp;usg=__8-z8jRfKsq8fDc14hI25r2rDmtA=&amp;h=560&amp;w=560&amp;sz=94&amp;hl=EN&amp;start=4&amp;tbnid=Ut10rgqTy67mTM:&amp;tbnh=133&amp;tbnw=133&amp;prev=/images?q=pinata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bspot.com/Images/News_Features/2003/06/pinata.jpg&amp;imgrefurl=http://www.bbspot.com/News/2003/06/pinata.html&amp;usg=__LnmCob6alnIJ0VjUsfBgd_h-I6g=&amp;h=400&amp;w=292&amp;sz=49&amp;hl=EN&amp;start=9&amp;tbnid=XvaxLrJskhjOrM:&amp;tbnh=124&amp;tbnw=91&amp;prev=/images?q=pinata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upload.wikimedia.org/wikipedia/commons/thumb/6/66/PI&#209;ATA.jpg/800px-PI&#209;ATA.jpg&amp;imgrefurl=http://teachingownership.blogspot.com/2007/11/pinata-model-of-learning.html&amp;usg=__L8IgE0_hzllaVhb15Q_i7Xy4KoA=&amp;h=600&amp;w=800&amp;sz=90&amp;hl=EN&amp;start=54&amp;tbnid=metck2lFnqszlM:&amp;tbnh=107&amp;tbnw=143&amp;prev=/images?q=pinata&amp;gbv=2&amp;ndsp=20&amp;hl=EN&amp;sa=N&amp;start=4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www.ransackery.com/wp-content/uploads/2006/05/scary-pinata2.jpg&amp;imgrefurl=http://www.ransackery.com/2006/05&amp;usg=__xqCgusFD6i1udcONGbwTKVYeHUg=&amp;h=310&amp;w=300&amp;sz=12&amp;hl=EN&amp;start=59&amp;tbnid=0Hgf5BGJAbbeoM:&amp;tbnh=117&amp;tbnw=113&amp;prev=/images?q=pinata&amp;gbv=2&amp;ndsp=20&amp;hl=EN&amp;sa=N&amp;start=40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images.google.com/imgres?imgurl=http://www.losanjealous.com/wp-content/uploads/2008/05/pinata15.jpg&amp;imgrefurl=http://www.losanjealous.com/2008/05/12/an-afternoon-at-the-piata-district/pinata15/&amp;usg=__8k-cjTsBMro8RdZXRaOnriz1SN8=&amp;h=432&amp;w=576&amp;sz=196&amp;hl=EN&amp;start=68&amp;tbnid=TwvWppG3JxUuDM:&amp;tbnh=101&amp;tbnw=134&amp;prev=/images?q=pinata&amp;gbv=2&amp;ndsp=20&amp;hl=EN&amp;sa=N&amp;start=60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images.google.com/imgres?imgurl=http://static.howstuffworks.com/gif/pinatas-4.jpg&amp;imgrefurl=http://home.howstuffworks.com/pinatas2.htm&amp;usg=__M8yBVQweqwtZNVnEsSfZL4crFNU=&amp;h=390&amp;w=400&amp;sz=41&amp;hl=EN&amp;start=65&amp;tbnid=ttJJO_e-BAkNXM:&amp;tbnh=121&amp;tbnw=124&amp;prev=/images?q=pinata&amp;gbv=2&amp;ndsp=20&amp;hl=EN&amp;sa=N&amp;start=60" TargetMode="External"/><Relationship Id="rId13" Type="http://schemas.openxmlformats.org/officeDocument/2006/relationships/image" Target="../media/image33.jpeg"/><Relationship Id="rId14" Type="http://schemas.openxmlformats.org/officeDocument/2006/relationships/hyperlink" Target="http://images.google.com/imgres?imgurl=http://i.ehow.com/images/GlobalPhoto/Articles/2110186/ghostpinata-main_Full.jpg&amp;imgrefurl=http://www.ehow.com/how_2110186_ghost-pinata.html&amp;usg=__0FK_uPTp--9Ne95DSv5uYoPoDsI=&amp;h=600&amp;w=550&amp;sz=35&amp;hl=EN&amp;start=66&amp;tbnid=mu5ptubXsdmlVM:&amp;tbnh=135&amp;tbnw=124&amp;prev=/images?q=pinata&amp;gbv=2&amp;ndsp=20&amp;hl=EN&amp;sa=N&amp;start=60" TargetMode="External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3.xml"/><Relationship Id="rId3" Type="http://schemas.openxmlformats.org/officeDocument/2006/relationships/slide" Target="slide95.xml"/><Relationship Id="rId4" Type="http://schemas.openxmlformats.org/officeDocument/2006/relationships/slide" Target="slide136.xml"/><Relationship Id="rId5" Type="http://schemas.openxmlformats.org/officeDocument/2006/relationships/slide" Target="slide154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hy are family celebrations special?</a:t>
            </a:r>
            <a:br>
              <a:rPr sz="4000"/>
            </a:b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Click to listen to the story.</a:t>
            </a:r>
            <a:r>
              <a:rPr b="0" lang="en-US" sz="1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icture 37" descr="Birthday Basket for Ti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8200" y="2271600"/>
            <a:ext cx="365940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09680" y="1981080"/>
          <a:ext cx="6477120" cy="409104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you will read about a birthday.  One friend had the freedom to come early to help set up a game. The mother and father helped too.  Why are family celebrations special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 - sho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a simple picture taken with a camer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 took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my birthday ca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was difficult to take goo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napsho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the moving c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i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read this word because you know how to read base words and e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cover the endings, read the base word, and then blend the base word and ending to read the whole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member that –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  <a:ea typeface="Arial"/>
              </a:rPr>
              <a:t>ed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dded to a base word to show that something has happened in the p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the spelling of the base word chan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the final consonant is doubled before adding an en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981080"/>
          <a:ext cx="6477120" cy="409104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you will read about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birthda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  One friend had the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freedom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to come early to help set up a game. The mother and father helped too.  Why are family celebrations special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Inflected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981080" y="1981080"/>
          <a:ext cx="7010640" cy="47246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-ing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i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ed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ho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cry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nodd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danc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99cc"/>
                          </a:solidFill>
                          <a:latin typeface="Arial Narrow"/>
                          <a:ea typeface="Arial"/>
                        </a:rPr>
                        <a:t>snapping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ummar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ing 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toy you give your friend for her birthday or a book you check out of the libra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mother’s sister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mother’s sister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something you eat at a birthday party or something you can carry things 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toy you give your friend for her birthda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ok you check out of the library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you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mother’s sister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your mother’s moth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something you eat at a birthday party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something you can carry things 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a girl who picks up everyone’s papers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a place to store your mone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place to store your mone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hirt—the shirt you didn’t want to get or the shirt you wear all the ti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someone who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omething—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irl who picks up everyone’s pap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or a boy who loses his book?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a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—a kind of cookie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 place to store your money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ich is your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shirt—the shirt you didn’t want to get or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the shirt you wear all the ti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ords from Other Languag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A Birthday Basket for T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there were many words written in Spanis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knew they were in Spanish because the print was different; the words were italiciz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first Spanish words were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Noventa anos!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which means Ninety years old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Words from Other Languag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ook in your story to see what these words me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bizcochos</a:t>
            </a: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27b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sugary cook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Que pas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What is i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b050"/>
                </a:solidFill>
                <a:latin typeface="Verdana"/>
              </a:rPr>
              <a:t>feliz cumplea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Verdana"/>
              </a:rPr>
              <a:t>Happy Birth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unt sue cullects do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Aunt Sue collects do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s that your faverite bask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s that your favorite baske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5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 between a city and a st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 between the day and y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pril 18 200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April 18, 200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Greenwood Califor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Greenwood,  Califor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une 2 200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Verdana"/>
              </a:rPr>
              <a:t>June  2, 200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ppropriate Phr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listen to poems about special occas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ednesda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special birthday gift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bout family birthday traditions. When is your birthday? Does your family have special birthday traditions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bout family birthday traditions.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hen is your birthday?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Does your family have special birthday traditions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ppropriate phr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 – e – bra -tion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can be a party or other activity in which people might eat, play music, and have a good time together to show happiness about a special day or when something good happe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e always have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or our birthd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elebra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when my brother graduated from colle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  <a:ea typeface="Verdana"/>
              </a:rPr>
              <a:t>Poetry Selection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day we’re going to the nature section of the sho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don’t know whatever happened to my creature pi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’ll finally get to hear the lecture about sculp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’ll see the action motion picture I’ve been waiting to se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y’ll make a mixture with the fish we’ve cau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can’t believe the commotion at the s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aunt gave me a presi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My aunt gave me a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 gave hir my piggy bank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 gave her my piggy bank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 – tom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something that people always do or have done for a long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is our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 drink warm milk at n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e have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usto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walking around the block after din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00b050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 opened a DVD a book a game and a toy on my birth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I opened a DVD, a book, a game, and a toy on my birth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ara Ally Desi Sierra Madison and Nikki came to my par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Kara, Ally, Desi, Sierra, Madison, and Nikki came to my par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We ate chicken strips apples cupcakes and ice cre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We ate chicken strips, apples, cupcakes, and ice cre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ke Connections:  Text to Sel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read about birthday celebrations around the world.  Tomorrow we will hear about another special birthday celebr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73152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hur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2860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your favorite birthday.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73152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Friday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981080" y="2133720"/>
          <a:ext cx="6705720" cy="39812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9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is week we read about</a:t>
                      </a:r>
                      <a:br>
                        <a:rPr sz="3600"/>
                      </a:br>
                      <a:r>
                        <a:rPr b="1" i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irthday traditions and customs. Celebrations create lasting memories. Why are family celebrations special?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nline Direc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caution when you set the sculpture beside the furni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 vulture is a creature that is sometimes in mo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was a lot of action at the celebratio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show lots of affection in our cul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 – di – tion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is a custom or belief that is handed down from generation to generation. For example, children get their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parents who got it from the grandpar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Our family has a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f singing around the piano on holid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t i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radi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 eat turkey on Thanksgiv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 Words 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Verdana"/>
              </a:rPr>
              <a:t>present, favorite, aunt, bank, collects, baske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a is the Spanish word for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ia is the Spanish word for au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keep money in a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You can keep money in a ba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one you like best is your 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he one you like best is your favori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ocabulary Words 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Verdana"/>
              </a:rPr>
              <a:t>present, favorite, aunt, bank, collects, baske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ut your trash in the 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Put your trash in the bas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nother word for a gift is a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Another word for a gift is a pres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opposite of gives away is 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The opposite of gives away is coll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676160" y="228600"/>
            <a:ext cx="746748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hat was my favurite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That was my favorite prese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i use a basket to collekt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I use a basket to coll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Online Director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10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Internet offers lots of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yping your problem or question into an online directory often leads to lists of possible links to find that inform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ording your search correctly will help you locate the information more quick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80720" y="2133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Let’s Talk Abo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Tradi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riday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tradition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 your family.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Arcade Gam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Jig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Match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Word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lling City: Amaz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Spelling City: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  <a:ea typeface="Arial"/>
              </a:rPr>
              <a:t> Vocabul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Times New Roman"/>
              </a:rPr>
              <a:t>Spell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Quia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Narrow"/>
                <a:ea typeface="Times New Roman"/>
              </a:rPr>
              <a:t>High Frequency 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APTPlus Video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(password required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Mexico’s Day of the Dead: Elementary Spanish: Grades One through Two: Unit Seven, Lesson Two (20:55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ere's No Food Like My Food: Rosita in Mexico (13:00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Birthday Celebrations and Quinceañera (01:46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Family Tradition"/>
          <p:cNvPicPr/>
          <p:nvPr/>
        </p:nvPicPr>
        <p:blipFill>
          <a:blip r:embed="rId1"/>
          <a:srcRect l="0" t="0" r="0" b="8857"/>
          <a:stretch/>
        </p:blipFill>
        <p:spPr>
          <a:xfrm>
            <a:off x="3886200" y="457200"/>
            <a:ext cx="4800600" cy="5900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1905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isten to a song about family traditions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Arial"/>
              </a:rPr>
              <a:t>Quiz # 90461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nd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studied words like this already.  What do you know about reading this word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oday we’ll learn about syllables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letters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99cc"/>
                </a:solidFill>
                <a:latin typeface="Verdana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tand for the /shen/ and /cher/ sou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na 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Read each chunk, or syllable, from left to right and then blend them to read the whole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Remember that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tands for /shen/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99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99cc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0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lo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ca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cr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9907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"/>
              </a:rPr>
              <a:t>Arcade Gam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0666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furniture, motion, caption, nature, mixture, </a:t>
            </a:r>
            <a:br>
              <a:rPr sz="2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mention, adventure, fiction, lotion, portion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666880" y="1523880"/>
          <a:ext cx="5639040" cy="50594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p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en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r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rni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o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autio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ulp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ois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i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a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ctu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re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u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ra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Draw Conclusion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ummariz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Recall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Red, White, and Blu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ow might the astronauts have felt when they landed on the mo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Draw Conclusion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Summariz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Draw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conclus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means figuring out something about a  character or an ev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ood readers use what they know about real life and what they have read to help them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draw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conclusion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ood reader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summariz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what they read.  This helps them make sure they understand the tex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47920" y="152280"/>
            <a:ext cx="769608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favorit aunt collects basket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My favorite aunt collects baske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where are we meeting?  she aske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3399"/>
                </a:solidFill>
                <a:latin typeface="Verdana"/>
              </a:rPr>
              <a:t>Where are we meeting?” she aske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ff70cf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mmas are used in addresses.  They separated the city and the sta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212 Oak L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ucson, Arizona 8574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mmas are used in dates. They separate the date and the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January 31, 192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uesday, June 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greeting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Dear Ann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closing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Lov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Krystal wrote to Anna, Paul, and Aunt Be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 fish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 aunts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u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Using Commas</a:t>
            </a:r>
            <a:br>
              <a:rPr sz="4000"/>
            </a:br>
            <a:r>
              <a:rPr b="1" lang="en-US" sz="2400" spc="-1" strike="noStrike">
                <a:solidFill>
                  <a:srgbClr val="ff99cc"/>
                </a:solidFill>
                <a:latin typeface="Verdana"/>
              </a:rPr>
              <a:t>Add commas where they are needed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24 Maple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yracus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New York 132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une 24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ar Jaim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 am at my grandparents’ ranch in Colorado.  We come here every June.  We swi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fish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hike.  I see all my cousi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u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and uncles.  It is great.  See you s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our friend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on 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Draw Conclu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read about a family celebration—a birthday par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ist fun celebrations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057400" y="2209680"/>
          <a:ext cx="6781680" cy="409104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we will read a story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bout a girl named Cecilia. She is having a party for her tía. She must decide what gift to give her. Have you ever been to a surprise party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39152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7400" y="2209680"/>
          <a:ext cx="6781680" cy="409104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will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read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tory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bout a girl named Cecilia.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he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is having a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art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for her tía. She must decide what gift to give her. Have you ever been to a surprise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arty</a:t>
                      </a: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971800" y="1066680"/>
          <a:ext cx="4648320" cy="53215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elebra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ustom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raditio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nspec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ngl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rillia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napsho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 – ate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omething, you make something that hasn’t been made befo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She likes to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vases from cl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My da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delicious new recipes for din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new grocery store will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crea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many new jobs for 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 - spec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something, you look at it very careful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my room after I clean it to make sure I did a good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shoul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nspec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clothes before you buy them to make sure they are well-m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0400" y="1143000"/>
          <a:ext cx="4191120" cy="52848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3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eliev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inall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day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omorrow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atev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 – gle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way you look at something is th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from which you see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seats were on the side at a bad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so we couldn’t see the screen very we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People look at things from a different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gl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80720" y="28951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agda’s Tortilla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mo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 - 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ra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You can read these words because you know how to read words with endings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at syllables form mo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at syllables form frac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When you come to a word with the ending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ion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–tur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look at the word and then read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honics Songs and Rhymes Chart 28"/>
          <p:cNvPicPr/>
          <p:nvPr/>
        </p:nvPicPr>
        <p:blipFill>
          <a:blip r:embed="rId1"/>
          <a:srcRect l="0" t="0" r="2786" b="10960"/>
          <a:stretch/>
        </p:blipFill>
        <p:spPr>
          <a:xfrm>
            <a:off x="4495680" y="304920"/>
            <a:ext cx="4419720" cy="624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8440" y="761760"/>
            <a:ext cx="2514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  <a:ea typeface="Verdana"/>
              </a:rPr>
              <a:t>Listen for words with –tion and –ture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951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elebr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ffe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advent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furnit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olle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ffe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0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br>
              <a:rPr sz="4000"/>
            </a:br>
            <a:r>
              <a:rPr b="1" i="1" lang="en-US" sz="2000" spc="-1" strike="noStrike">
                <a:solidFill>
                  <a:srgbClr val="ff99cc"/>
                </a:solidFill>
                <a:latin typeface="Verdana"/>
                <a:ea typeface="Arial"/>
              </a:rPr>
              <a:t>lecture, adventure, edition, puncture, creation, potion, vulture, addition, affection, mixtur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66880" y="1523880"/>
          <a:ext cx="5639040" cy="49546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ahoma"/>
                          <a:ea typeface="Tahoma"/>
                        </a:rPr>
                        <a:t>-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rea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o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di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ffection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e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dven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unc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ul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371600"/>
          <a:ext cx="5943600" cy="46753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ixture         fix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ation          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ection          n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uture            fea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cture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furni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ction  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dventu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aution 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ui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Syllables </a:t>
            </a: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–tion, -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e watched a motion picture about an adven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 like this furniture and light fix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was lots of action at the fire s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1828800"/>
          <a:ext cx="3733920" cy="39322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o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ith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know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76720" y="762120"/>
          <a:ext cx="4495680" cy="58672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rese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un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ske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collects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ank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favorit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inat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ninetieth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99cc"/>
                        </a:buClr>
                        <a:buSzPct val="70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tia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prese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a gift; something that someone gives you or that you give some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au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your father’s sister, your mother’s sister, or your uncle’s w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ske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something to carry or store things in; it can be made of straw, plastic, or strips of woo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Arial Narrow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sket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4760" y="1294920"/>
            <a:ext cx="6933960" cy="5257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garden-vegetable-basket-l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5089680"/>
            <a:ext cx="1676160" cy="1482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Brown_Willow_Laundry_Basket__S_2_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2469_hand_woven_native_american_basket_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2143080" cy="1141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bird_design_woven_baske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295280"/>
            <a:ext cx="1571400" cy="1270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Wire_Shopping_Bas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5120" y="1295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Plastic_Shopping_Bask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91520" y="5105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" descr="suet-to-go-suet-basket-with-bird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09880" y="281952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Cocktail-Party-Gift-Basket-Premium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28195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Bite%2520Meez%2520Dog%2520Gift%2520Basket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8880" y="2666880"/>
            <a:ext cx="1638360" cy="221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basket1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76720" y="12952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1" descr="Maize_Laundry_Basket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638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denise-jocks-thistle-basket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562720" y="2819520"/>
            <a:ext cx="153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bank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04760" y="1143000"/>
            <a:ext cx="7010280" cy="541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pt-piggy-bank-pink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89548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ank_of_america_tower_sept_20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33720" y="3733920"/>
            <a:ext cx="1885680" cy="2819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ban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5120" y="1143000"/>
            <a:ext cx="2286000" cy="161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000a503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2895480"/>
            <a:ext cx="2314800" cy="1600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5" descr="swiss-federal-bank-zurich-6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495680" y="1143000"/>
            <a:ext cx="2048040" cy="1600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" descr="bridgeman-safe-deposit-boxes-cutou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686480"/>
            <a:ext cx="2133360" cy="186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9" descr="025624_e89c5be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05720" y="3048120"/>
            <a:ext cx="2219040" cy="1668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1700261-The_River_Banks_of_Lake_St_Lucia-Lake_Saint_Lucia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81680" y="4952880"/>
            <a:ext cx="2133720" cy="1605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" descr="mitchell_river_bank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1143000"/>
            <a:ext cx="2209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pinat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Picture 5" descr="WizardHatPinata1-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143000"/>
            <a:ext cx="2105280" cy="2104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pina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1143000"/>
            <a:ext cx="1565280" cy="2133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800px-PI%C3%91AT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057400" y="34290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scary-pinat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34320" y="3352680"/>
            <a:ext cx="200016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pinata1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1143000"/>
            <a:ext cx="2819520" cy="2125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pinatas-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81080" y="5224320"/>
            <a:ext cx="1371600" cy="1338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ghostpinata-main_Full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952880" y="5257800"/>
            <a:ext cx="1181160" cy="128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9" descr="pinata"/>
          <p:cNvPicPr/>
          <p:nvPr/>
        </p:nvPicPr>
        <p:blipFill>
          <a:blip r:embed="rId16"/>
          <a:stretch/>
        </p:blipFill>
        <p:spPr>
          <a:xfrm>
            <a:off x="6400800" y="5257800"/>
            <a:ext cx="107172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pumpkinpinata_Full"/>
          <p:cNvPicPr/>
          <p:nvPr/>
        </p:nvPicPr>
        <p:blipFill>
          <a:blip r:embed="rId17"/>
          <a:stretch/>
        </p:blipFill>
        <p:spPr>
          <a:xfrm>
            <a:off x="3733920" y="5257800"/>
            <a:ext cx="88560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7_25"/>
          <p:cNvPicPr/>
          <p:nvPr/>
        </p:nvPicPr>
        <p:blipFill>
          <a:blip r:embed="rId18"/>
          <a:stretch/>
        </p:blipFill>
        <p:spPr>
          <a:xfrm>
            <a:off x="7624800" y="5257800"/>
            <a:ext cx="1271520" cy="1305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6" descr="pinata300x315"/>
          <p:cNvPicPr/>
          <p:nvPr/>
        </p:nvPicPr>
        <p:blipFill>
          <a:blip r:embed="rId19"/>
          <a:stretch/>
        </p:blipFill>
        <p:spPr>
          <a:xfrm>
            <a:off x="4952880" y="3352680"/>
            <a:ext cx="1635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collect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bring things together or gather them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bank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a place where people keep their mon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favorit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the thing you like better than all the ot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pinata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- a decorated container filled with candy and toys that is hung at parties for blindfolded people to break open with a sti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ninetieth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next after the 89</a:t>
            </a:r>
            <a:r>
              <a:rPr b="0" lang="en-US" sz="3200" spc="-1" strike="noStrike" baseline="30000">
                <a:solidFill>
                  <a:srgbClr val="ffffcc"/>
                </a:solidFill>
                <a:latin typeface="Verdana"/>
              </a:rPr>
              <a:t>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t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– Spanish word for au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Vocabulary Wor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res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irthd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u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od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sk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do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ollect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am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n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au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avorit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ntext Cl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re are strategies when you come across words you don’t underst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ntext Cl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ometimes we can get the meaning from word parts.  You may understand the base word and prefix (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</a:rPr>
              <a:t>unmade, not mad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) or two shorter words in a compound (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</a:rPr>
              <a:t>snowman, a man made of snow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hy are family celebrations specia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0920" y="2666880"/>
            <a:ext cx="5187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620120" cy="69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jordan colects baseball c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Verdana"/>
              </a:rPr>
              <a:t>Jordan collects baseball car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my favrite aunt sall flower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99cc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Verdana"/>
              </a:rPr>
              <a:t>My favorite aunt sells flow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Using Com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Comma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re used in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address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 Commas should be placed between the names of cities and sta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in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date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after the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greet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closing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in a le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as are used to separate three or more things in a </a:t>
            </a:r>
            <a:r>
              <a:rPr b="1" lang="en-US" sz="3200" spc="-1" strike="noStrike">
                <a:solidFill>
                  <a:srgbClr val="ff27ba"/>
                </a:solidFill>
                <a:latin typeface="Verdana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ummar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omorrow we will read about another special birthday celebr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5708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uesda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3623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rite about a special birthday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edne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981080" y="2133720"/>
          <a:ext cx="6782040" cy="407808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e will read about Magda again today. Magda is helpful in the kitchen.  Magda works slowly,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ile Abuela works quickly.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agda may not make her tortillas perfectly round, but people like them. What would you like to learn how to make?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Birthday Basket for Tia</a:t>
            </a: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ednesday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981080" y="2133720"/>
          <a:ext cx="6782040" cy="407808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e will read about Magda again today. Magda i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helpful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in the kitchen.  Magda work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low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,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while Abuela work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quick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. 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Magda may not make her tortillas </a:t>
                      </a:r>
                      <a:r>
                        <a:rPr b="1" i="1" lang="en-US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perfectly</a:t>
                      </a:r>
                      <a:r>
                        <a:rPr b="1" i="1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round, but people like them. What would you like to learn how to make?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Base Words and End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yllables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–tion, -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ords from Other Langu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Gramm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623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 – liant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If something i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, it is very bright and spark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diamond ring was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colored lights in the night parade wer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The stars are 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brilliant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 ton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4-24T01:36:25Z</dcterms:modified>
  <cp:revision>45</cp:revision>
  <dc:subject/>
  <dc:title>Slide 1</dc:title>
</cp:coreProperties>
</file>